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A10-40CA-4FD5-BD4C-8F535822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1C1-2100-494F-84CE-A9F5E535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071-9BC1-4079-9F69-7B1534F6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49A-7715-4BB0-9172-0ED75D74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B7A-7ECA-4F45-A782-45C4F5F5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4CE-C67B-4A48-9A93-F088340E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1E8-C3B6-4540-9679-2F01E1DB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D9A-9CE4-4B24-8A93-035AD4A3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C79-D0EC-4441-BE43-683FAD02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268-0332-446A-BFA2-F77B82C9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43F-64C4-4D89-A869-5FEABDFB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005-45D8-49EF-BAB7-35AE85D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E955-716F-4BEB-8B14-18BB0175D82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Effects Of Earthquak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im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ffects of an earthquake can be easily split up into two sec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ary effe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hose that occur immediately as the earthquake happ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include buildings collapsing, roads and bridges being destroyed and railway lines being buckl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ccur due to the shaking of the gr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alibri"/>
              </a:rPr>
              <a:t>Fir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alibri"/>
              </a:rPr>
              <a:t>Tidal Wav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alibri"/>
              </a:rPr>
              <a:t>Landslid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alibri"/>
              </a:rPr>
              <a:t>Disea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from ruptured gas li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as the main cause of death and damage after the San Francisco earthquake in 19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idal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idal waves caused by an earthquake is called a tsunam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can travel very quickly across entire oceans, before engulfing land 1000's of miles aw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1964 Alaskan earthquake caused considerable damage in several Californian coastal are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hough Los Angeles has escaped so far, its is still considered to be a tsunami hazard prone ar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andsl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ften be triggered by earthquakes, causing huge amounts of material to be moved very quick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ctually what occurred just before the volcanic eruption on Mt. St. Hel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most likely to occur where the land is steep, saturated or w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an spread very quickly in the unsanitary conditions often left behind by massive earthquak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ater becomes contaminated very quickly, and in Less Economically Developed Countries (LEDC's) especially; access for the medical services can be badly hampered by the damage caused by the quak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most common diseases to be associated with earthquakes are therefore water-borne ones like cholera and typhoi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58:24Z</dcterms:created>
  <dc:creator>Dell_02</dc:creator>
  <dc:description/>
  <dc:language>en-US</dc:language>
  <cp:lastModifiedBy>Dell_02</cp:lastModifiedBy>
  <dcterms:modified xsi:type="dcterms:W3CDTF">2011-01-26T14:03:27Z</dcterms:modified>
  <cp:revision>1</cp:revision>
  <dc:subject/>
  <dc:title>Effects Of Earthquakes</dc:title>
</cp:coreProperties>
</file>